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7980480" y="386640"/>
            <a:ext cx="13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larendon Condensed"/>
              </a:rPr>
              <a:t>to the</a:t>
            </a:r>
            <a:r>
              <a:rPr b="0" lang="en-US" sz="4800" spc="-1" strike="noStrike">
                <a:solidFill>
                  <a:srgbClr val="ffcc00"/>
                </a:solidFill>
                <a:latin typeface="Clarendon Condensed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 rot="4980000">
            <a:off x="8121240" y="1771560"/>
            <a:ext cx="1152720" cy="4255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FadeLeft">
              <a:avLst>
                <a:gd name="adj" fmla="val 21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latin typeface="Garamond"/>
              </a:rPr>
              <a:t>MAX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4" name=""/>
          <p:cNvSpPr/>
          <p:nvPr/>
        </p:nvSpPr>
        <p:spPr>
          <a:xfrm>
            <a:off x="6617520" y="-5112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2400" spc="-1" strike="noStrike">
                <a:solidFill>
                  <a:srgbClr val="ff3300"/>
                </a:solidFill>
                <a:latin typeface="Georgia"/>
              </a:rPr>
              <a:t>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78320" y="2184840"/>
            <a:ext cx="193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don Condensed"/>
              </a:rPr>
              <a:t>to the</a:t>
            </a:r>
            <a:r>
              <a:rPr b="0" lang="en-US" sz="4800" spc="-1" strike="noStrike">
                <a:solidFill>
                  <a:srgbClr val="ffcc00"/>
                </a:solidFill>
                <a:latin typeface="Clarendon Condensed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21180000">
            <a:off x="5384520" y="1848960"/>
            <a:ext cx="2616120" cy="10922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FadeLeft">
              <a:avLst>
                <a:gd name="adj" fmla="val 32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MAX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43" name=""/>
          <p:cNvSpPr/>
          <p:nvPr/>
        </p:nvSpPr>
        <p:spPr>
          <a:xfrm>
            <a:off x="747720" y="1027080"/>
            <a:ext cx="421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8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8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8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8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5400" spc="-1" strike="noStrike">
                <a:solidFill>
                  <a:srgbClr val="ff3300"/>
                </a:solidFill>
                <a:latin typeface="Georgia"/>
              </a:rPr>
              <a:t>ing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G Times"/>
              </a:rPr>
              <a:t>Click to edit the title text format</a:t>
            </a:r>
            <a:endParaRPr b="1" lang="en-US" sz="6000" spc="-1" strike="noStrike">
              <a:solidFill>
                <a:srgbClr val="0066ff"/>
              </a:solidFill>
              <a:latin typeface="CG Time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3520" y="3657240"/>
            <a:ext cx="6629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e Barker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jbarker at library.berkeley.edu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700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hn Kupersmith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jkupersm at library.berkeley.edu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“Know Your Library” Worksho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eaching Library, University of California, Berkeley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4400" y="378360"/>
            <a:ext cx="61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G Times"/>
              </a:rPr>
              <a:t>Research Quality Web Searching, Part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4960" y="5789160"/>
            <a:ext cx="86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Unicode MS"/>
              </a:rPr>
              <a:t>COURSE PAGE URL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Unicode MS"/>
              </a:rPr>
              <a:t>http://www.lib.berkeley.edu/TeachingLib/Guides/Internet/Google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y Googl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7520" y="1523520"/>
            <a:ext cx="8051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ggest web search engine data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5 or more billion pag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ults often include what you wa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eatures, shortcuts, special databases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amp;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05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d6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ow Google work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d6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ploiting Google’s “FUZZY” search op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d6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king your searches more prec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d6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ndy tools and shortcu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d6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est of Google’s family of datab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d6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oogle Books &amp; Google Schola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5468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ow Google wor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18960"/>
            <a:ext cx="805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ider programs find pages on the public web, build huge database of web pag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arch program gives you ways to search this data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geRank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™ arranges your resul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 proximity and placement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pularity - a link to a page is a vote for i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mportance - traffic, popularity of pages linking to a p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2131200"/>
            <a:ext cx="58291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Let’s try it !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03520" y="3580920"/>
            <a:ext cx="661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ands-on exerci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3:03:14Z</dcterms:created>
  <dc:creator>Library Systems Office</dc:creator>
  <dc:description/>
  <dc:language>en-US</dc:language>
  <cp:lastModifiedBy>Joe Barker</cp:lastModifiedBy>
  <dcterms:modified xsi:type="dcterms:W3CDTF">2007-05-10T17:53:34Z</dcterms:modified>
  <cp:revision>21</cp:revision>
  <dc:subject/>
  <dc:title>PowerPoint Presentation</dc:title>
</cp:coreProperties>
</file>